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1.png" ContentType="image/png"/>
  <Override PartName="/ppt/media/image9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267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4113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2732040"/>
            <a:ext cx="84960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-графика и анимация в программе 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7280" y="422100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843B9-5FAC-4E19-B82F-724A40F379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ерните свиток Edit Geometry. И напротив кнопки Extrude ведите число 0,01. После этого у нас появился еще один ряд полигонов, но он слишком маленький, для того, чтобы увеличить его используйте инструмент Select and Non-uniform Scale по осям XY по фронтальному, относительно модели, виду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39800" y="284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13-33" descr=""/>
          <p:cNvPicPr/>
          <p:nvPr/>
        </p:nvPicPr>
        <p:blipFill>
          <a:blip r:embed="rId1"/>
          <a:stretch/>
        </p:blipFill>
        <p:spPr>
          <a:xfrm>
            <a:off x="287280" y="1125360"/>
            <a:ext cx="3745080" cy="27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069A-3209-4342-BA7E-77C9ADCB584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48000" y="1195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зультат раб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14-33" descr=""/>
          <p:cNvPicPr/>
          <p:nvPr/>
        </p:nvPicPr>
        <p:blipFill>
          <a:blip r:embed="rId1"/>
          <a:stretch/>
        </p:blipFill>
        <p:spPr>
          <a:xfrm>
            <a:off x="358920" y="1160640"/>
            <a:ext cx="370836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24000" y="836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9E37-DA17-4E31-A3C0-00AB455EE1B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720" y="5040"/>
            <a:ext cx="798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Преобразование двухмерных форм в трехмер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объекты: выдавли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6000" y="978120"/>
            <a:ext cx="864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работы редактора выдавливания прост: создается некоторая сплайновая форма, которая используется для создания трехмерного объекта с заданным сечением. Такой метод очень удобен для моделирования предметов, имеющих постоянное поперечное сечение вдоль одной из ос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25760" y="464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64220" descr="Extrusion Editor"/>
          <p:cNvPicPr/>
          <p:nvPr/>
        </p:nvPicPr>
        <p:blipFill>
          <a:blip r:embed="rId1"/>
          <a:stretch/>
        </p:blipFill>
        <p:spPr>
          <a:xfrm>
            <a:off x="2087640" y="3357720"/>
            <a:ext cx="468000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DF40-578D-42A2-9F0A-D1FBB1932DD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761400"/>
            <a:ext cx="84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нцип построения сплайна по точкам мало чем отличается от создания кривой в любой программе для векторной графики. Для каждой точки можно выбрать один из трех типов излома, а форму линии можно корректировать с помощью касательных. На панели инструментов редактора выдавливания можно найти инструмент для замыкания кривой, а также кнопки для быстрого создания 2D-форм самых распространенных типов: звездочки, стрелки, значка "плюс" и прочих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37040" y="504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64221" descr="Extrusion Editor"/>
          <p:cNvPicPr/>
          <p:nvPr/>
        </p:nvPicPr>
        <p:blipFill>
          <a:blip r:embed="rId1"/>
          <a:stretch/>
        </p:blipFill>
        <p:spPr>
          <a:xfrm>
            <a:off x="1476360" y="4545000"/>
            <a:ext cx="5724720" cy="9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24000" y="441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ADB0-DFE5-401A-AC8C-62629484D87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69084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тобы увидеть результат работы с этим инструментом, нужно вернуться на этап работы с редактором сце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79880" y="3587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64222" descr="Extrusion Editor"/>
          <p:cNvPicPr/>
          <p:nvPr/>
        </p:nvPicPr>
        <p:blipFill>
          <a:blip r:embed="rId1"/>
          <a:stretch/>
        </p:blipFill>
        <p:spPr>
          <a:xfrm>
            <a:off x="2303640" y="1700280"/>
            <a:ext cx="3947760" cy="30988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31640" y="5011560"/>
            <a:ext cx="871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давливание можно также производить со скосом, что даст возможность получить несколько иной профиль конечной мод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9888-7D9F-4F5F-BBF2-362D404B6D6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4068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67080" y="500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62520" y="36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spark2_2" descr=""/>
          <p:cNvPicPr/>
          <p:nvPr/>
        </p:nvPicPr>
        <p:blipFill>
          <a:blip r:embed="rId1"/>
          <a:stretch/>
        </p:blipFill>
        <p:spPr>
          <a:xfrm>
            <a:off x="431640" y="1484280"/>
            <a:ext cx="8209080" cy="4346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74560" y="8719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здание материала для текстурной разверт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24000" y="728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EED0-C24E-4186-917E-1AABAFBCA36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76440" y="302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84520" y="32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spark2_17" descr=""/>
          <p:cNvPicPr/>
          <p:nvPr/>
        </p:nvPicPr>
        <p:blipFill>
          <a:blip r:embed="rId1"/>
          <a:stretch/>
        </p:blipFill>
        <p:spPr>
          <a:xfrm>
            <a:off x="324000" y="944640"/>
            <a:ext cx="3816360" cy="16844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5006880" y="538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spark2_18" descr=""/>
          <p:cNvPicPr/>
          <p:nvPr/>
        </p:nvPicPr>
        <p:blipFill>
          <a:blip r:embed="rId2"/>
          <a:stretch/>
        </p:blipFill>
        <p:spPr>
          <a:xfrm>
            <a:off x="324000" y="3213000"/>
            <a:ext cx="3816360" cy="27259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319640" y="94608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2960640"/>
            <a:ext cx="849636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19640" y="97992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ъект для снятия развер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321192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кстурная разверт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18520" y="187920"/>
            <a:ext cx="51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Текстурная развертка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05D7-B915-4762-9936-042FE5EC4F2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16360" y="267336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оздание и наложение текстур для фигуры полицей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DsMaxAnimation\Policmen\policmenwalkmaps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4472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782E-687B-44BE-BF5D-6AB9E3B1239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680000" y="159228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ный и озвученный 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персонаж для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b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созданный методом анимирования по ключевым кад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1160640"/>
            <a:ext cx="403236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3d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Klown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klownsound.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09800" y="187920"/>
            <a:ext cx="73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Создание анимированных объектов в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SMa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8908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8FFA-158D-40E8-B4D8-92EB3A61376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680000" y="1197000"/>
            <a:ext cx="403236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араметрическая анимация  таяние и распа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вязанных объек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столкнов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ирование част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нимация иерархий       двуногие 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ip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080" y="1160640"/>
            <a:ext cx="4211640" cy="48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mel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blast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DsMaxAnimation\position.a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BiiiardReac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collision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works52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ire_particles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3DsMaxAnimation\FootStScelet.av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160720" y="187920"/>
            <a:ext cx="46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Разновидности </a:t>
            </a: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3D</a:t>
            </a:r>
            <a:r>
              <a:rPr b="1" lang="ru-RU" sz="2400" spc="-1" strike="noStrike">
                <a:solidFill>
                  <a:srgbClr val="0f2bec"/>
                </a:solidFill>
                <a:latin typeface="Arial"/>
              </a:rPr>
              <a:t> анимаци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DB35-20AD-40F4-A829-C843FA6888D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1198440"/>
            <a:ext cx="3708360" cy="255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48000" y="112428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й объект, который мы постро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ет сф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ём сферу радиусом 4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оличество сегментов задаём равное... давайте попробуем 3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CA27-1E6C-402E-8740-12ECF48011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AE37-76FD-495C-985E-87BE550E52A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248000" y="102528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ом окне, где соединяются продольные линии сферы нажмите на 4/5 влево от центральной точки сферы и продолжайте рисовать этот сплайн до конца. В итоге закройте его. Вот подробный рисун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3600" y="19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3-33" descr=""/>
          <p:cNvPicPr/>
          <p:nvPr/>
        </p:nvPicPr>
        <p:blipFill>
          <a:blip r:embed="rId1"/>
          <a:stretch/>
        </p:blipFill>
        <p:spPr>
          <a:xfrm>
            <a:off x="216000" y="1174680"/>
            <a:ext cx="370836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D7DB-6A80-464A-9947-351E683F570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48000" y="115704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чки в сплайне делайте только тогда, когда под Вашим курсором стоит синий крестик, т.к. нам нужно чтобы сплайн выравнивался по вершинам сферы. В итоге в окне Perspective будет примерно такой ви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8288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4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894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7D4A8-9B96-4F59-B638-CAC29262AD6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48000" y="1011600"/>
            <a:ext cx="46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жмём на кнопку S (на клавиатуре), чтобы выключить выравнивание по точк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ите в поле Number of copies число 1. Нажмите OK. В результате у нас будет уже не один, а два идентичных сплайна, но один из них будет немного отступать от сферы, а не прилегать вплотную как первы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5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BF1E-5632-4BEB-BF9A-A02030FA6B0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19640" y="986400"/>
            <a:ext cx="482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теперь нам нужно сделать сплайны-мостики между этими двумя большими сплайнами. . Выбираем сплайн (теперь он единственный). Во вкладке Modify нажимаем на кнопку Vertex (в свитке Selection), на которой нарисовано четыре точки. И нажимаем на кнопку Create Line, которая находится в свитке Geometry. Теперь, нажмите на любую точку, на сплайне, а затем нажмите на точку, располагающеюся перед предыдущ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62040" y="21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6-333" descr=""/>
          <p:cNvPicPr/>
          <p:nvPr/>
        </p:nvPicPr>
        <p:blipFill>
          <a:blip r:embed="rId1"/>
          <a:stretch/>
        </p:blipFill>
        <p:spPr>
          <a:xfrm>
            <a:off x="287280" y="1160640"/>
            <a:ext cx="370836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0C82-0332-46A2-B1AE-671B272DA6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48000" y="1377360"/>
            <a:ext cx="46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нарисовать промежуточные сплайны, а потом соединить их. Сплайны в дальнейшем будут создаваться кнопкой Create Line, а не Line Shape (читайте выше). Вот какие и где должны будут быть у Вас сплайн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7164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7-3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1636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E3FE-5D0D-456B-8855-DF7B0C473BB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248000" y="1122480"/>
            <a:ext cx="46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ступим к созданию мостиковых сплайнов. Это гораздо проще. Начинайте их строить от самого маленького сплайна к самому крупному, попарно соединяя точки. Вот т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27080" y="4108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8-33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3852720" cy="26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24000" y="69228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A448-2CF1-48B0-947B-63FDBA91342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7800" y="187920"/>
            <a:ext cx="33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2bec"/>
                </a:solidFill>
                <a:latin typeface="Arial"/>
              </a:rPr>
              <a:t>Создание сплайнов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76720" y="1125360"/>
            <a:ext cx="0" cy="4896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48000" y="1157760"/>
            <a:ext cx="460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стимся в стеках на Surface. И сконвертируем модель в Editable Mesh, нажав по ней правой кнопкой мыши и выбрал Convert To: / Convert To Editable Mesh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8960" y="323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0280" y="384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10-33" descr=""/>
          <p:cNvPicPr/>
          <p:nvPr/>
        </p:nvPicPr>
        <p:blipFill>
          <a:blip r:embed="rId1"/>
          <a:stretch/>
        </p:blipFill>
        <p:spPr>
          <a:xfrm>
            <a:off x="216000" y="1160640"/>
            <a:ext cx="385128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0:44:32Z</dcterms:modified>
  <cp:revision>107</cp:revision>
  <dc:subject/>
  <dc:title>Lecture Template </dc:title>
</cp:coreProperties>
</file>